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0B7-B27B-4A91-835C-DD1C03B6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7B3-1276-4319-B18D-B9D9DDFF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AA9-D6A8-4ECD-9DFC-0EB2BA92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4AC-9E6A-4941-AB1E-4A58CACD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A62-7B07-4EF8-8E81-F4AEC6EB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17C-3A7A-445E-9F04-5DD5438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9FE-1E26-462F-AA8D-EB1AF98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3C9-46EC-4C70-A0A8-F45D7181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A03-62D1-4821-8ADB-9865A449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B13-4950-4CE4-AC92-367DCE6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47E-9ABB-4293-BFC7-05B1A2C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1BF-3356-4940-9DB7-90BFD807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CE14-C334-4D5F-947D-0F633209E0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61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860280"/>
            <a:ext cx="5361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Screen Shot 2013-03-05 at 7.56.50 PM.png"/>
          <p:cNvPicPr/>
          <p:nvPr/>
        </p:nvPicPr>
        <p:blipFill>
          <a:blip r:embed="rId2"/>
          <a:stretch/>
        </p:blipFill>
        <p:spPr>
          <a:xfrm>
            <a:off x="0" y="3213000"/>
            <a:ext cx="5580000" cy="15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Screen Shot 2013-03-05 at 8.21.13 PM.png"/>
          <p:cNvPicPr/>
          <p:nvPr/>
        </p:nvPicPr>
        <p:blipFill>
          <a:blip r:embed="rId3"/>
          <a:stretch/>
        </p:blipFill>
        <p:spPr>
          <a:xfrm>
            <a:off x="755640" y="5084640"/>
            <a:ext cx="4356000" cy="10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respect2.jpg"/>
          <p:cNvPicPr/>
          <p:nvPr/>
        </p:nvPicPr>
        <p:blipFill>
          <a:blip r:embed="rId4"/>
          <a:stretch/>
        </p:blipFill>
        <p:spPr>
          <a:xfrm>
            <a:off x="19080" y="189000"/>
            <a:ext cx="2176560" cy="286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respect2.jpg"/>
          <p:cNvPicPr/>
          <p:nvPr/>
        </p:nvPicPr>
        <p:blipFill>
          <a:blip r:embed="rId5"/>
          <a:stretch/>
        </p:blipFill>
        <p:spPr>
          <a:xfrm>
            <a:off x="2395440" y="189000"/>
            <a:ext cx="21765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KEEP MY HANDS AND FEET TO MY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8642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RESPECTFUL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2521080" cy="222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516720" y="1125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395280" y="429264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2556000" y="4365720"/>
            <a:ext cx="1579320" cy="215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4427640" y="433692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600" spc="-1" strike="noStrike">
                <a:solidFill>
                  <a:srgbClr val="000000"/>
                </a:solidFill>
                <a:latin typeface="Arial"/>
              </a:rPr>
              <a:t>USE KIND WORDS</a:t>
            </a:r>
            <a:br>
              <a:rPr sz="6600"/>
            </a:br>
            <a:r>
              <a:rPr b="1" lang="es-UY" sz="5400" spc="-1" strike="noStrike">
                <a:solidFill>
                  <a:srgbClr val="000000"/>
                </a:solidFill>
                <a:latin typeface="Arial"/>
              </a:rPr>
              <a:t>USE PEOPLE’S NA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600" spc="-1" strike="noStrike">
                <a:solidFill>
                  <a:srgbClr val="000000"/>
                </a:solidFill>
                <a:latin typeface="Arial"/>
              </a:rPr>
              <a:t>NO BAD LANGU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6875640" y="1700280"/>
            <a:ext cx="1944360" cy="117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2376360" cy="27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4716360" y="1754280"/>
            <a:ext cx="1943280" cy="11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5"/>
          <a:stretch/>
        </p:blipFill>
        <p:spPr>
          <a:xfrm>
            <a:off x="2556000" y="1806480"/>
            <a:ext cx="1944720" cy="11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6"/>
          <a:stretch/>
        </p:blipFill>
        <p:spPr>
          <a:xfrm>
            <a:off x="395280" y="1859040"/>
            <a:ext cx="1944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Glasshouse Country Christian College</cp:lastModifiedBy>
  <dcterms:modified xsi:type="dcterms:W3CDTF">2013-03-24T11:59:44Z</dcterms:modified>
  <cp:revision>58</cp:revision>
  <dc:subject/>
  <dc:title>Texto</dc:title>
</cp:coreProperties>
</file>